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43F-BD5E-4BDD-991F-2A122079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19F-0FAE-4B50-8800-285C4B09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AD7C2-91E3-4F9C-9CA8-C17D0B0A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3F3DA-604D-4C78-8E65-AA0FC7AF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A8A92-6E21-40A0-A291-AF5750EA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1B6E4-AC1D-4441-ABAA-7037C183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0BDF5-5C2A-480D-B9D5-6892E50A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41685-5483-409E-81CE-6A2945DA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E30EF-15F1-4C68-8132-D5560648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FE752-13BD-42B6-AFBE-2D44C234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6405A-872D-4CD9-9F88-27D28A11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41D1-5089-41FA-9AD8-E560FB4A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D73-A5C1-4CC9-A5C6-256CA6B0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BAFBE-342F-468E-A269-34694E6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C73F0-7CF2-4628-93BE-B47DE593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82AD9-643C-4505-B736-AB0338DD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48BFD-A910-4DC4-8669-68104E64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B9135-B50F-4A33-88D9-6962B354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26B9-56DF-4439-A9A9-E3C85A4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8F90-0719-48E4-A437-76ED3D19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BA4F3-DE4A-4EED-A651-341B868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DAA9B-2939-4E5F-AB33-8D6D4C1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2DA8F-5718-40A3-8D78-BECA20A2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AFC-955E-4FE9-96AD-8B387621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3B2DF-8E03-43DB-9BDC-1E91245F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1797B-1951-46FD-8F40-C40B8D7A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F83A3-6BA8-4152-980E-8A77EBE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686CE-C038-4771-83C9-A8621CF7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9DD58-91B6-43B6-B791-E4FAD32D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62F54-9203-4E0E-BFEE-B26F1355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3E6E5-A9B5-4827-8CC0-F83A11B9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633AF-2F58-4FA6-9ED9-D14D460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B16E8-7DD9-4738-B1AE-DF23EDC4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B62E0-C7DD-4F17-A334-3C42A8AD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4FC-8CF2-4A82-B9E8-D4016BB0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161C5-B874-4CD4-BD55-F6609FBE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E2F7-FB2C-49DC-B5E3-2B28F7F8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441DB-325B-43F0-B856-C293AF33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BC0A-AD11-4E4E-A2D0-3766654A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03743-E1F0-43CA-A68D-C677BC5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5BA7A-8334-43A3-986B-0EE48C32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ED5E8-105A-4800-99F8-B57D59C2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D36FF-C82F-463C-A82F-F9D794E4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8791D-5C23-4E19-807A-528A787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500C0-A7D3-4D76-BBB2-AAD0F915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DDF-C6FE-4EB4-8748-1939AB63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BDE44-AEE7-418F-89AE-A20D5626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9CB2B-3119-4319-9A2A-F9C09B04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8AD9C-59FD-4FEC-8FB2-6BD3D01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4A4AB-65B1-490D-931A-939CBA3F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36CBD-6705-404E-9B97-2F1C6650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F5FE-47C4-4F33-8A9F-480C55C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2ECB-C4E1-4992-B14F-E3C9D25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9EE-6525-4D05-90B4-A3168E4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C71D-EB88-4B74-B209-ABD74C3E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145D-6966-4BA6-9B55-8DBDE99D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260-7299-465B-A74A-3795AF72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1BA-FA53-45F6-9219-AAB0D2E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E72E-9FC6-41BA-85AB-44FC7C44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9B7-10A0-41D8-B89B-483C2308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0451-0E84-454E-B65C-6FDA0647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EDFC-1E61-40F8-A61A-7AF26556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D9F6-31B0-44A6-AEFB-B160F3B4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D706-80FC-4EFA-AC22-6AB7E130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3723-821D-4819-B4B3-2F196664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C2A9-4DEE-4C36-960A-45B7DD19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0799-B434-4ED0-9F21-2FC29096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5A6-3D19-4800-9BFB-1E7E7F79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5FC6-28A5-40A7-BC77-BB6F575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6453-94DA-4E94-8A5E-886892A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FCCB-5794-4626-B781-CA139883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74C48-FA4E-4582-AA72-1CEAFDD7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D4DB-C131-4F18-BFDE-2FDD3D69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EDF0-9A83-4242-B599-577391D8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9FC0-CAC9-45BC-9DEA-3AC2F343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3C9F6-2B8D-4BF7-85B3-D024291E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5986B-886B-4753-A714-8C93AEC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2542-EC67-4B0B-9BF6-61E17376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7FD-562C-47C4-80C2-D63673EC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F256-C7C9-4585-88D7-864CDB6C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D3B75-2B0F-4C40-93A8-48B91B7D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8B032-CAD5-4EF8-B15E-2395D77A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FEC2-1218-4AFA-A5FC-1BB1063E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4C7D8-BAB9-4B15-BDA3-32D4E7F4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82622-27A0-4C2F-856C-33FF2CD9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D86ED-3756-474D-B0E6-77BA1A7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2D45B-EC8E-470C-9D97-28E14D54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5B26-EF67-4740-8FF1-0ACBE601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7E92-2DFF-4CAF-B9F4-2704A8E7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F9C-1514-45DF-9834-EB0CBB8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5E99-2D4B-4786-A222-8102F1A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2BB3-3630-42D0-92C6-B55C4498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0B362-D958-44D6-BF6E-A5A933B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C850C-EF91-4A8C-AEF0-65FADCE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FB69D-0387-4C89-8104-A6A4633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2D94B-4186-4BDF-AA01-646E944F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45175-0240-46A2-B4E0-4F9A2C94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5F8AE-2FBE-4925-9240-60B8EEEB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3B580-2DFF-41EE-8C6F-E4DCDA47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8FD34-667E-4BCD-B392-43C19AFE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7E3-C0AD-476F-BE50-CFFED11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A66E-461E-4762-A591-7628AA75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29C98-E907-4798-91C9-ACF06A2E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EBBE-0A6D-4366-9E8F-6258210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89D22-CC63-47B3-A656-3C4338AA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5AD91-9C2A-4C67-8E3E-4308854C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1809B-B5DD-4365-BF56-A924133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E55F9-40FC-4871-AE54-83E3503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70F6-52EC-468B-A3CB-0C686E4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3DDE4-CBE1-4E31-A2D2-2565987C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F3566-8BD0-4E94-9EA9-2228EFDA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0CC-3389-43AD-9556-B8217AFD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9329F-1B18-4A0C-A544-07F34A09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10B54-2679-4E0E-A624-66D6F6BA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98E83-2822-466B-98F4-9AEA11C2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DE255-36DA-4C95-B515-694F9999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3D2E8-866C-4A34-B785-4642D533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0ADAF-DA89-41B7-857E-733EB826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18AEB-5404-4148-B471-C2530622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C1A6-A8E1-4DBD-96D9-C2939B9C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4771-1070-4B75-AB46-E4B5EA7D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CD080-6CC0-4592-B76E-CE9FC847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CDFF-705B-4828-B1DB-89C788B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C9F1-D49E-4154-BB44-39C6239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DFB0D-32A8-48B6-B41A-5CE37EF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6D3E7-FDA1-4032-8856-72CC218C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BE5F5-C554-4FE9-BE33-D32A7409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1FF14-A6C5-47BD-B540-6900E138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5028-9B4E-4457-B368-A7DAB612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7AE14-E65D-4161-83CF-F990CA21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A240B-9352-4EC8-B829-968417E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EA466-7B6F-4E87-89B5-BD0B95EC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67CAA-1A81-464B-AE4F-34D5667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610-7DF7-4309-A6F9-A4200504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72E6D-B288-45ED-8FE8-5C3C211C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02CDB-4635-46F3-B244-BBDD8B3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944B0-77B2-4380-8FAB-EBBF253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476A6-4B70-4EBA-BDBA-397AA6F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012D8-AFF9-45E9-9DCE-18BA7CF6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55BF-907C-4C3E-A1BE-7A01B42D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193D2-CF84-4C0E-B8FB-995B7473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97151-9AD2-4479-BF45-CC9C878F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BBA4E-564F-467C-813B-7394CB4B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B7674-EE8D-436D-99D6-9B8EA99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8682-7A47-4F70-96D1-F4B20DE38E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2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3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3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CAE-AF80-4F63-93AF-66F4391242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E1FC-C5B8-47A2-ADCE-D4922DF644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620-6D70-4075-AC9A-6ADFF00B24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A40-0E31-4E16-9906-F67E934AEC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4BD3-EED3-454D-99C9-D01F682269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4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479-5DF9-4759-A414-03B44F1752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2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3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3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8B56-6D3A-40D6-887C-4F5E654686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0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AB0-BB8A-41B9-A1E1-8D511F193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826-7BF3-49AA-A13E-5F67BA3570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13B9-A23C-4187-A6E6-AF7C016795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4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4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5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5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22AE-6E53-4D2E-AB54-FDA08C064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docs.google.com/document/d/1DGJaSIQ9sQz9E_TQdLqqHHRqBQfVkM4ny89WfiDrXiI/edit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digitalcommons.buffalostate.edu/spanish_lesson_plans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laits.utexas.edu/spe/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personal.colby.edu/~bknelson/SLC/index.php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forum.wordreference.com/forumdisplay.php?f=23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Foreign Language Ed. </a:t>
            </a:r>
            <a:br>
              <a:rPr sz="5400"/>
            </a:b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t Buff State: </a:t>
            </a:r>
            <a:r>
              <a:rPr b="0" i="1" lang="en-US" sz="5400" spc="-1" strike="noStrike">
                <a:solidFill>
                  <a:srgbClr val="ffff99"/>
                </a:solidFill>
                <a:latin typeface="Arial"/>
              </a:rPr>
              <a:t>Fast track to Spanish certification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22096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On your mark, get set…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ine course incorporated many communicative activities that helped increase my proficiency.  It was a good balance of communicative activities and grammar based exercise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ine course allowed a certain flexibility in terms of  completing activities and assignments that a traditional classroom course does not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as able to connect with several other LOTE teachers form the area to not only learn Spanish together but network and discuss our French programs as well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51920" y="1523880"/>
            <a:ext cx="8610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Kara Muldoon (Lackawanna MS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did the majority of my cert online…I would honesty say that anyone who thinks that online classes are easier are mistaken. There is often a lot of work involved and you have to stay on top of the work and the due da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OVED online learning because I was working full-time and I had a baby at home so being able to write papers at night and submit blogs during my lunch period at work....made life much easier for me.  I often would take my laptop outside and sit in the sun in the summer while doing work for your class.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's definitely an advantage to online learning........and being able to stay in your pajamas!!! :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22860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ownside is the oral aspect.  Your classes were the only ones that truly promoted the oral aspect of the language by Skyping with you and interviewing native speak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classes that I took often had NO oral assessments at all.  It is so important to speak the language to improv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ving the background in French made the Spanish a piece of cake. The languages are so similar.  I'd say to get hired as a French or Spanish teacher today that it is imperative to have both languages--many districts won't even look at you if you don't have both. 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Some worthwhile </a:t>
            </a:r>
            <a:br>
              <a:rPr sz="4400"/>
            </a:br>
            <a:r>
              <a:rPr b="0" lang="es-ES_tradnl" sz="4400" spc="-1" strike="noStrike">
                <a:solidFill>
                  <a:srgbClr val="ffff99"/>
                </a:solidFill>
                <a:latin typeface="Arial"/>
              </a:rPr>
              <a:t>web-based 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14475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3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earning Spanish After French (Googledoc): </a:t>
            </a:r>
            <a:r>
              <a:rPr b="0" lang="es-ES_tradnl" sz="1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https://docs.google.com/document/d/1DGJaSIQ9sQz9E_TQdLqqHHRqBQfVkM4ny89WfiDrXiI/edi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ingüística y Pedagogía del Español (Fb group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4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ociocultural Model Lesson Plans: </a:t>
            </a:r>
            <a:r>
              <a:rPr b="0" lang="es-ES_tradnl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http://digitalcommons.buffalostate.edu/spanish_lesson_plans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panish Proficiency Exercises (UT-Austin): </a:t>
            </a:r>
            <a:r>
              <a:rPr b="0" lang="es-ES_tradnl" sz="28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http://www.laits.utexas.edu/spe/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panish Language and Culture with Barbara Kuczun Nelson (Colby): </a:t>
            </a:r>
            <a:r>
              <a:rPr b="0" lang="es-ES_tradnl" sz="24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http://personal.colby.edu/~bknelson/SLC/index.ph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WordReference Forums: </a:t>
            </a:r>
            <a:r>
              <a:rPr b="0" lang="es-ES_tradnl" sz="22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http://forum.wordreference.com/forumdisplay.php?f=2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98440" indent="-298440">
              <a:spcBef>
                <a:spcPts val="550"/>
              </a:spcBef>
              <a:buSzPct val="1496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eature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3" name="TextBox 2"/>
          <p:cNvSpPr/>
          <p:nvPr/>
        </p:nvSpPr>
        <p:spPr>
          <a:xfrm>
            <a:off x="228600" y="118728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ss size for courses in major capped at 15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iving Spanish Club featuring guest speakers and film discuss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AATSP-affiliated professional community,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Buffalo Spanish Teache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novative course of study that features coursework in Spanish teaching (en esp.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, clar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mmer study abroad program in Salaman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ended to fully online coursework that match innovative online learning technologies to rigorous standards for proficiency-oriented pedago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83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gram distinctions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TextBox 2"/>
          <p:cNvSpPr/>
          <p:nvPr/>
        </p:nvSpPr>
        <p:spPr>
          <a:xfrm>
            <a:off x="304920" y="1022400"/>
            <a:ext cx="861048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Among first in state to achieve ACTFL (American Council on the Teaching of Foreign Languages)-NCATE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National Council for Accreditation in Teacher  Education)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National Recognition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Upheld in 2012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ose connections to professional organizations from the local to national level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st track to adding Spanish: </a:t>
            </a:r>
            <a:r>
              <a:rPr b="0" i="1" lang="en-US" sz="4400" spc="-1" strike="noStrike">
                <a:solidFill>
                  <a:srgbClr val="ffff99"/>
                </a:solidFill>
                <a:latin typeface="Arial"/>
              </a:rPr>
              <a:t>Starting from scratch (18 crs.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lt Open SUNY for online Spanish (very few past 4th semester)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ot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BE PICKY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Rosetta Stone- less useful for higher lev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earn while planning for future students. Use what you have as templa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Use web resources wisely- more authentic, less drill and grammar cha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e room for two upper-level courses in culture/literature. You´ll need a base in arts and letters, culture to pass th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YSTCE CST-Spanis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ast track to adding Spanis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NYSED fast-track for highly proficient speakers of Spanis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ain ‘Advanced-Low’ on full ACTFL Oral Proficiency Intervie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ain ‘Advanced-Low’ on full ACTFL Writing Proficiency Tes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s the NYSTCE CST-Spanis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upper-level Spanish courses in culture/litera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ditional resourc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88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vailable for online courses-by-contract or independent studies Jterm or Summer. Will be regular offerings online: SPA421:Structure of Modern Span., SPA402: Span. for Span. Teaching, SPA410: Literacy for Span. Teac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twork with colleagues through WNYFLEC, AATF, Alliance Française, Buffalo Spanish Teachers to create intensive cohorts (summer immersion for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and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emesters of Spanish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Jean LeLoup´s Costa Rica Progra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38088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ry Ellen Gianturco (Depew HS)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class online was great. It really helped me solidify my writin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think a good idea is for French teachers to get together and have a study group - I did that w several gals from your class.  My school happened to have had several Spanish-speaking exchange students at the time that I was getting certified and I was able to get a lot of help from them on our free periods!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ould recommend trying to get one of the scholarships to study in Mexico this summer for a few weeks. I wasn't able to do that because of my kid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lso had a good friend from Peru who worked with me regularly. 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lso had a friend of a friend who was getting a PhD at the time in philosophy and I traded Spanish lessons from him for the review of his thesis! 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dvice from French Teachers pursuing Spanish certificatio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enna Gaske (Iroquois HS)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found Buffalo State to be very helpful with the proces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certification officer at Buffalo State was a great resource for questions on meeting state require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you and Dr. Miller have actual classroom experience.  I found this very helpful.  Professors with actual experience at the lower levels understand much better what K-12 teachers need to be prepared to teach those leve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25:38Z</dcterms:created>
  <dc:creator>warformk</dc:creator>
  <dc:description/>
  <dc:language>en-US</dc:language>
  <cp:lastModifiedBy>Warford, Mark</cp:lastModifiedBy>
  <dcterms:modified xsi:type="dcterms:W3CDTF">2015-02-27T22:24:37Z</dcterms:modified>
  <cp:revision>53</cp:revision>
  <dc:subject/>
  <dc:title>STRAND II: The Profession</dc:title>
</cp:coreProperties>
</file>